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D36-34BB-435D-8C35-9393BE39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16D-3559-4B03-B449-7CB703F3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128-DF7E-42BD-A33C-1F486153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59CA-7166-4AD1-BE79-CA1E5FB8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25A7-E946-4E57-939B-85876C5B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5C44-2C9F-49DD-9302-F2FBD1FE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857F-583D-48A5-89F3-B6276647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8985-F8BB-49D6-B42E-7B76AE16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D8CC-A47C-4EAD-9ADD-D5F45193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BC3C-31A9-43B0-91C8-82744095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EC98-13DB-4A84-AB20-AD1E87B2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4BF-631A-4F74-B937-4BA5D5E8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3506-0C7C-470D-BE63-8199D715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4422-DD04-4741-A145-C56CD47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8FBB-681F-449B-9852-3B6748A7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521C-A2CA-40C4-8B81-DCF945F6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86E2-F0D7-4F2D-AD4F-1EBE486A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D83-2FFB-4F0C-AEB3-A66888A3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04E-B797-4844-B1BE-6C2A9153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FB7-DDC2-4B84-9712-23D475F3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A3D-2C3E-4F8A-BD88-6A9A03B1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803-24EE-4302-BCD8-8A117F6B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600-4739-49F4-BD55-9938B14B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C66-66C9-4410-9553-3588269F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C64B-9AD0-4947-BE7F-5B3E098301A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1EBC-7C6A-4AD5-95BA-549CF4E6DF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944640"/>
            <a:ext cx="8869320" cy="2262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GARET M. CES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5" descr="j0186348"/>
          <p:cNvPicPr/>
          <p:nvPr/>
        </p:nvPicPr>
        <p:blipFill>
          <a:blip r:embed="rId2"/>
          <a:stretch/>
        </p:blipFill>
        <p:spPr>
          <a:xfrm>
            <a:off x="1523880" y="2819520"/>
            <a:ext cx="1289160" cy="180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GARET CES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MBRIDGE COLLE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TION LITE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grew up in Bradford and live in Haverhi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ried – two daughters, ages - 18 &amp; 2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ociate of Science in Human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rtified Alcohol &amp; Drug Counselor (CAD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rrent position – Intake Coordinator – MH &amp; 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rolled in Cambridge College/BS Human Serv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timated graduation 201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GOALS/OBJECTIVES</a:t>
            </a:r>
            <a:br>
              <a:rPr sz="4600"/>
            </a:b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maintain healthy living, by exercising and ea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lthy foods (we love organic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culivate healthy relationships and care for my dear ones (daughters, husband, extended famil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ursue education and secure a clinical pos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mental health field – utilize counseling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live with passion and gratitude every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Hobbies – free time</a:t>
            </a:r>
            <a:br>
              <a:rPr sz="4600"/>
            </a:b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walking – in woods, near oce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zumba class or home dv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watching movi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cooking (Italia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hopping with my gir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arde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4" descr="j0234131"/>
          <p:cNvPicPr/>
          <p:nvPr/>
        </p:nvPicPr>
        <p:blipFill>
          <a:blip r:embed="rId1"/>
          <a:stretch/>
        </p:blipFill>
        <p:spPr>
          <a:xfrm>
            <a:off x="5410080" y="213372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9:34:22Z</dcterms:created>
  <dc:creator>training</dc:creator>
  <dc:description/>
  <dc:language>en-US</dc:language>
  <cp:lastModifiedBy>ccstudent</cp:lastModifiedBy>
  <dcterms:modified xsi:type="dcterms:W3CDTF">2011-10-02T12:38:55Z</dcterms:modified>
  <cp:revision>17</cp:revision>
  <dc:subject/>
  <dc:title>Slide 1</dc:title>
</cp:coreProperties>
</file>